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AEB8-60BF-4A7D-A816-5909286A5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es often appear on the top or bottom of a page, or in menu bars and frames.  These sections often contain authorship clu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lling and grammatical errors are important clues that a site ought to be avoided as a source.  Be on the lookout for information that just doesn’t “feel r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is not a contest. It doesn’t matter how many sources you collect.  What does matter is their quality and their relevan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give examples of when it would be more or less important to have your site be current?  Is it important that an author keep a site main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suspicious of information that appears out of nowhere.  Unless this is a completely original source some documentation ought to be present for you to take the page seri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various reasons people choose to publish on the Web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Web publishing different from traditional print--book, magazine, newspaper--publishing?  Who filtered (or selected) those resources for qual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old days, we had good old print to rely on.  Books and magazines still go through a filtering process for quality.  Before they are published, they are double-checked by authors and edited for accuracy by a variety of professionals.  This is nOT the case with material on the free Web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iscover an author has a Ph.D.  Do you need to investigate any further? What if her degree is in physics and the site she wrote is on Shakespe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verything on Geocities bad?  Would your teacher question you citing a source that resided on a free serv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often it is difficult to find information about authorship.  That may be a clue in itself.  However, if you really want to use a page, do not give up!  You may have to dig a little deeper to establish a page’s authorit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B7E-420B-4F46-ADE9-A736BAE7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169-EF78-4E4B-B1C0-177229E9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A77-B561-416B-8CB7-EACD8D4A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FF9-489F-479A-8564-3D318491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0A84-1557-45B9-8479-0160BACA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F474-5A2F-4925-9D5B-A18C76EC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3660-67E9-4F39-83AA-63C00CAB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D66A-A1E6-4F3C-BEFC-C163C589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CC6C-38E8-431C-BE25-748244A1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5722-F461-461C-BAFD-DFD59630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8C3D-1346-486C-A582-E73C0C05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4D0-9805-47CF-9785-1ED26777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2B36-9C2B-4DE4-94C8-503B93C0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ED2E-E629-453A-A4F5-2D4DF8B8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7A2D-7DE5-4926-BA60-B18FDDE4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9E97-3CCF-40EE-B14F-930F3954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556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9988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556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9988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4DB1-E06A-429A-8C31-5CD858F3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382-EB71-4D97-ADC8-3F4011B0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E36-FE74-4BDB-8F45-F968540C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CED-135D-48D1-A845-F417872E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C1E-7AB9-44A9-AF08-159E04B6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56C-C83F-41E1-8837-0748608E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033-916D-4DE5-B773-E44172F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371-8F73-4050-BF44-43ADD303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16200000">
            <a:off x="4304520" y="6513480"/>
            <a:ext cx="610200" cy="68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20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2031"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9144000" cy="6629400"/>
            <a:chOff x="0" y="152280"/>
            <a:chExt cx="9144000" cy="6629400"/>
          </a:xfrm>
        </p:grpSpPr>
        <p:sp>
          <p:nvSpPr>
            <p:cNvPr id="2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228600" y="76320"/>
            <a:ext cx="8763120" cy="1523880"/>
            <a:chOff x="228600" y="76320"/>
            <a:chExt cx="8763120" cy="1523880"/>
          </a:xfrm>
        </p:grpSpPr>
        <p:sp>
          <p:nvSpPr>
            <p:cNvPr id="5" name=""/>
            <p:cNvSpPr/>
            <p:nvPr/>
          </p:nvSpPr>
          <p:spPr>
            <a:xfrm>
              <a:off x="228600" y="763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4724280" y="763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522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623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FF2E-DFC6-49C1-8695-D86F77C11755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76320"/>
            <a:ext cx="9144000" cy="6705360"/>
            <a:chOff x="0" y="76320"/>
            <a:chExt cx="9144000" cy="6705360"/>
          </a:xfrm>
        </p:grpSpPr>
        <p:sp>
          <p:nvSpPr>
            <p:cNvPr id="50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6320"/>
              <a:ext cx="4114800" cy="67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" y="2590920"/>
            <a:ext cx="8763120" cy="1523880"/>
            <a:chOff x="228600" y="2590920"/>
            <a:chExt cx="8763120" cy="1523880"/>
          </a:xfrm>
        </p:grpSpPr>
        <p:sp>
          <p:nvSpPr>
            <p:cNvPr id="53" name=""/>
            <p:cNvSpPr/>
            <p:nvPr/>
          </p:nvSpPr>
          <p:spPr>
            <a:xfrm>
              <a:off x="228600" y="25909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24280" y="25909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26668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2514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E854-98E5-4B4D-9E75-D66C0C4A1717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Hey there! </a:t>
            </a:r>
            <a:br>
              <a:rPr sz="6000"/>
            </a:b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Have you evaluated?</a:t>
            </a:r>
            <a:endParaRPr b="0" lang="en-US" sz="6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48769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 that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enough to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381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Look for credibility clues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and phrases to look for: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out us, Who Am I, FAQs, For More, Company Information, Profiles, Our Staff, Hom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the author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no information other than an e-mail link, write a polite e-mail asking for more informatio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943600" y="5405400"/>
            <a:ext cx="9842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Truncate the URL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out more information about a web site, go to the home page by truncating the URL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haracters in the address up to the next slash mark to see what the domain of the address is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1760" y="3809880"/>
            <a:ext cx="8179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from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ecollege.edu/history/middleages/chaucer/smith.htm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ecollege.edu/history/middleages/chaucer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ecollege.edu/history/middleag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ecollege.edu/histor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ecollege.edu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CURACY: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facts agree with other sources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your knowledge, does the information seem correct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re appear to be errors on the page (spelling, grammar, facts)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05320" y="4705200"/>
            <a:ext cx="18237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ABILITY: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ource present a particular view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age connected to a group that wants to make you think a certain way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age selling a produc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7518"/>
                </a:solidFill>
                <a:latin typeface="Wide Lati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information answer my question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eliminate or ignore it because it simply doesn’t help me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: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this information created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 revised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dates important to my subjec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author of the page stopped maintaining i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 suspicious of undated material.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16765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bibliography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websites or books real? Have you or your librarian heard of or been able to check them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links did the author choos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hyperlinks reliable, valuabl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links work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7652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c18b0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E / PURPOSE: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material I can read and understand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too simple? Is it too challenging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as this page created? To inform or explain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ersuade? To sell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What can you 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learn from a URL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 to check the URL to get a clue about the site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rategy is only a guideline. People can easily purchase domain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URLs as clues to conten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886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m=commercial sites (vary in their credibility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ov=U.S. government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rg=organization, often non-profit. Some have strong bias and agend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edu=school or university site (is it K-12? By a student? By a scholar?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store=retail busines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int=international institutio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95680" y="1752120"/>
            <a:ext cx="3810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c=educational institution (like .edu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il=U.S. military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=networked service provider, Internet administrative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useum=museum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ame=individual Internet use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biz=a busines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ro=professional’s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=personal si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292572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33920" y="457200"/>
            <a:ext cx="4876560" cy="2590920"/>
          </a:xfrm>
          <a:prstGeom prst="wedgeRoundRectCallout">
            <a:avLst>
              <a:gd name="adj1" fmla="val -32712"/>
              <a:gd name="adj2" fmla="val 59435"/>
              <a:gd name="adj3" fmla="val 16667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Hmmm.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This one looks good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How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can I tell for sur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What do their URLs reveal about these sites?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ersonal.statecollege.edu/~ejv114/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fi.edu/wright/index.htm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house.gov/house/Legproc.htm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aolmembers.com/joyciev328/civalwarsong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Remember, the </a:t>
            </a:r>
            <a:r>
              <a:rPr b="0" i="1" lang="en-US" sz="4400" spc="-1" strike="noStrike">
                <a:solidFill>
                  <a:srgbClr val="6600cc"/>
                </a:solidFill>
                <a:latin typeface="Arial"/>
              </a:rPr>
              <a:t>free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 Web is not your only choice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use print sources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use Grolier On-line? iConn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heck with your teacher/librarian for advic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12193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o, why should we care about all of thi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4290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will be important for the rest of your lif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will be using information to make important decisions!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r should I buy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octor should I choos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my child have this surgery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 take this medication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ant to be able to be sure that  the information you choose is  current, balanced, relevant, and accurate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Just as you evaluate 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your sources . . .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eacher will evaluate your work based on the quality of the sources you select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carefully.  Don’t settle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od en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lways counts!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62520" y="5407200"/>
            <a:ext cx="15238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valuation is important!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arn to be fussy!</a:t>
            </a:r>
            <a:endParaRPr b="0" lang="en-US" sz="66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It’s okay to be confused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billions of websites out ther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m are not good for repor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’s very hard to tell the good from the bad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Web authors don’t want you to understand the differenc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1998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8951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one can publish anyt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Web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your job, as a researcher, to look for quality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029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In the old days, we had good old print to rely on.  Books, newspapers, and magazines still go through a filtering process for quality.  Before they are published, they are double-checked by authors and edited for accuracy by a variety of professionals.  This is NOT the case with material on the free Web. 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609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1295640" cy="113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629400" y="152280"/>
            <a:ext cx="1371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5410080" cy="3200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1676520"/>
            <a:ext cx="3200400" cy="1904760"/>
          </a:xfrm>
          <a:prstGeom prst="wedgeEllipseCallout">
            <a:avLst>
              <a:gd name="adj1" fmla="val 49601"/>
              <a:gd name="adj2" fmla="val 85333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Okay, so how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do we know if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a site is good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0"/>
            <a:ext cx="5486400" cy="2743200"/>
          </a:xfrm>
          <a:prstGeom prst="wedgeEllipseCallout">
            <a:avLst>
              <a:gd name="adj1" fmla="val 12268"/>
              <a:gd name="adj2" fmla="val 85763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Yeah, and how can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we be sur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nd"/>
              </a:rPr>
              <a:t>our teacher</a:t>
            </a: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 will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think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it’s good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</a:rPr>
              <a:t>enough to cit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Think of CARRDS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BILITY / AUTHORIT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URAC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ABILIT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NC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de Lati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c18b0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E AND PURPOS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BILITY /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uthored the information and why?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uthor an expert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ctually published this pag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a personal page or is it part of the site belonging to a major institution? (Clues pointing to a personal page: ~ tilde, %, users, members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ge hosted by a free server like AOL, Tripod, Geocities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1904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2659320" cy="27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914400"/>
            <a:ext cx="5181840" cy="3124080"/>
          </a:xfrm>
          <a:prstGeom prst="wedgeEllipseCallout">
            <a:avLst>
              <a:gd name="adj1" fmla="val 46995"/>
              <a:gd name="adj2" fmla="val 83435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But what if I can’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find any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d"/>
              </a:rPr>
              <a:t>author information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00:09:16Z</dcterms:created>
  <dc:creator>Joyce Valenza</dc:creator>
  <dc:description/>
  <dc:language>en-US</dc:language>
  <cp:lastModifiedBy>reading</cp:lastModifiedBy>
  <cp:lastPrinted>2005-11-15T12:14:40Z</cp:lastPrinted>
  <dcterms:modified xsi:type="dcterms:W3CDTF">2011-12-15T19:23:20Z</dcterms:modified>
  <cp:revision>70</cp:revision>
  <dc:subject/>
  <dc:title>Hey there!</dc:title>
</cp:coreProperties>
</file>